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5A6-FB78-49FB-8042-B198D977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313-C4A2-46FE-A5E4-49068E6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599-9B4B-40E2-9D8B-D98F592C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A49-71B3-4A0A-99B3-DE79C652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7F1-1881-410D-AC8B-3009EF3E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BAB-72B2-4D8C-A59A-3868E249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9B9-B7BD-4DDD-9B86-75375960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33F-AF1F-4C5B-934C-7279CA2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3BB-209C-4EEE-AC73-B48325A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416-B1BC-4E0A-9962-E1887B1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1C9-0B19-43FF-9D4D-0AEAEC1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2C6-AFBD-4DD0-BF83-25E8267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ADB-CDB7-4947-8FCD-443B3D3E25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7 Tak ďaleko som zablú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s istotou sa spolieh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v jeho láske spásu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čaká ta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ďaleko som zablúd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Boha v hriechu stále ž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mnoho rokov strádal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nechcem už byť cudzinc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život dosiaľ prázdny bo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náruč Otca tíši bô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očistí ma, obmy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ne nové rúcho dar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12:06Z</dcterms:modified>
  <cp:revision>22</cp:revision>
  <dc:subject/>
  <dc:title>Je veľký náš Pán, on slávy je Kráľ Nech do všetkých strán  spev vrúcnych znie chvál.</dc:title>
</cp:coreProperties>
</file>